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4C48-9903-4E69-88FC-480395F1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694-DD61-4A86-B476-D6269940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A6D-8783-4769-9BCB-2896DF2D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4BE-9EA1-48C5-97EE-39FD55CE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E12E-35C5-4156-B741-9A1B49B5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8D57-E070-42AC-BC00-BA9D699F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7068-EE75-4490-A714-81307EF5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E6A0-2BA4-4464-BB26-24552F2E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05BE-AE8C-4FDB-892A-41959E46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9CFA-7EBB-4D07-A42A-F93DC947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EFD0-0E3C-48C2-84D9-0EE8D229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6E4-C598-41DD-8517-B3BEEE41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FF68-FE8F-4DE7-84F7-1926D5F1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0721-2ADD-4EA9-8364-8DD7777F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59D1-C255-4A75-B198-A1C63D23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4783-3176-4BF9-8D9E-8F8B26F4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04F4-1876-4B7A-886D-68CFD346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2CD20-D131-43C1-9FA6-D886741C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7A4A1-6389-4E2C-AB5C-92DB30B5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F99B1-7CC2-4776-831D-0D7BC2E8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E6403-BCC8-4ADD-81BB-437CFDC8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F69627-D61F-4369-9BC7-3DB07DC7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0FF-70D1-4D8C-AC7D-D016B666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8F991-05C2-4BE5-B655-9AF680BE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1241B-8FFA-4B16-AA7C-D6EF9B49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96EC3-B3C8-401E-AAA7-EB42ED25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E4881-341D-46DF-8628-7F166567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40212-EF93-4FF2-BCBA-40845F95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EDC6D-D5D7-4E87-9750-0BDD888B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3DFD5-0B48-404A-B5EC-5DDA4CCB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C482A-4420-46A1-99B4-95CBE618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05CC0-69EA-4AFA-A081-56C81F06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23705-8F15-4D41-B00F-3AD98027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571F-F196-4658-B8AA-C0060937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C49D9-3382-412A-B3BC-63F21CF3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8CE14-1BBE-42AB-B707-A263017B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1FB31-0A24-456C-A95D-346CF55B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E700E-2C2A-428E-AA00-09E8C54A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A1025-9FF4-451D-BED9-B113E02A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75A60-3CFE-4CB0-97C6-990C3F17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2F9E4-C978-4999-8204-AB1BECCA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A19A5-6907-46F6-9284-BC62B0EE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17D5A-0803-42DA-9AB1-598A0C2F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E2135-CD45-4CA0-A2EC-59B1FFD9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B81B-DA0A-427C-B485-7F658A6E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41D9D-6A6C-45FE-A8CB-4507B83D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D22CC-6B78-4184-B6FD-4B5B2B62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A25496-C83D-4E56-A3B6-BF2A7714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CB1041-BB6A-4A92-A647-C8882F1E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FCEDF-3B9F-4D92-A598-7A709F53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F6723C-B787-4038-B04C-D42EAD8C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89771-532E-4CDC-8299-6DFCE03E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154CD5-3247-4D72-871C-BB03BB3E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6E291-FAB6-44BA-B3DA-51BF0192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9A64D-74C3-4AD9-96C3-BEC114FA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C47-D7F6-4929-B6C6-665A8FB4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A57751-0CB3-4DFB-ADC3-E90E3BFF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E30547-D633-4F12-AD64-EF324589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04FC6C-B88F-48FF-8717-8001AC73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0D5D21-0CA7-4F38-8437-F4622B5C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B99CD-D3D2-400D-A973-2258167A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E9428-C6F9-4753-87BB-F561F77A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E7475F-8FDD-4671-9771-E60824B5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0921B6-33B9-4343-AD1D-70F77941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C4969B-7B6D-4823-9037-593BDAB6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D4651-A0C4-4ACB-94A5-05207F48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1E1-572D-4A7D-BE6E-77CB2B65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335A4-1BA1-4645-B7D7-7EFAE990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4E213E-CDD1-4E34-AF5C-28E5B351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57A8D1-8E1E-46A0-A1E0-A1EAA33D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EE2087-E2AC-4C19-97B1-17A47D19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D384BC-3CDD-45FF-A84A-ADF691A5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0862B8-10C6-4C3E-B551-50B85011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B63CD0-1682-426F-ADE4-7AFFE196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15A202-16D3-4B2A-A5B3-F04CE5A0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0351B-2AF9-44D6-BA3A-8A53DE56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EBA7F2-9A27-4AD6-881F-6B18D12A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0B59-6293-4935-9455-3D46498D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5D981-2A7D-4838-A86E-CC43C4B5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B194ED-A606-4B94-976E-F6B59100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CC7AC3-5521-4773-A4FA-D027F8C1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03FBC5-1887-4C0B-A8CB-8A04F40A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0E313-89BC-4377-AAA2-2D24D10B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824-B712-4645-A902-CF9FD233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AF9C7-8C70-4581-92DE-7F11F3097C16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CD81B-28CF-454D-9F21-7B2659AB4D2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71808-EC8C-4695-B9F8-458E050C406B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F46D1-AC20-4B47-9E3A-204B12C0AD3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D388D-152F-4273-B85C-A48F96112742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0EADA-E720-458B-849E-9E7B6957A8F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FBE8B-A1AE-421B-856E-E17D98219B2F}" type="datetime">
              <a:rPr b="0" lang="en-US" sz="1200" spc="-1" strike="noStrike">
                <a:solidFill>
                  <a:srgbClr val="d6ecff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DD79F-7241-475F-8D56-171AA66E093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80E98-2703-4A8F-ABC6-38A39D91A984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A6A82-1FD2-4405-BD57-C802BCA3735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64A7E-A695-4D78-B50F-06A1A99213B5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4FEEA-7220-4037-B0F6-F572699E31B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99086-ED6B-4545-A912-56839EFA5ABE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B5651-DFC0-40FD-8C17-0A0B6A6D3AE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aldwick.k12.nj.us/waldwick/High%20School/Media%20Center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5b6f"/>
                </a:solidFill>
                <a:latin typeface="Century Schoolbook"/>
              </a:rPr>
              <a:t>6</a:t>
            </a:r>
            <a:r>
              <a:rPr b="1" lang="en-US" sz="4800" spc="-1" strike="noStrike" baseline="30000">
                <a:solidFill>
                  <a:srgbClr val="4e5b6f"/>
                </a:solidFill>
                <a:latin typeface="Century Schoolbook"/>
              </a:rPr>
              <a:t>TH</a:t>
            </a:r>
            <a:r>
              <a:rPr b="1" lang="en-US" sz="4800" spc="-1" strike="noStrike">
                <a:solidFill>
                  <a:srgbClr val="4e5b6f"/>
                </a:solidFill>
                <a:latin typeface="Century Schoolbook"/>
              </a:rPr>
              <a:t> GRADE </a:t>
            </a:r>
            <a:br>
              <a:rPr sz="4800"/>
            </a:br>
            <a:r>
              <a:rPr b="1" lang="en-US" sz="4800" spc="-1" strike="noStrike">
                <a:solidFill>
                  <a:srgbClr val="4e5b6f"/>
                </a:solidFill>
                <a:latin typeface="Century Schoolbook"/>
              </a:rPr>
              <a:t>SCIENCE FAIR: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4e5b6f"/>
                </a:solidFill>
                <a:latin typeface="Century Schoolbook"/>
              </a:rPr>
              <a:t>RESEARCHING WITH </a:t>
            </a:r>
            <a:br>
              <a:rPr sz="4800"/>
            </a:br>
            <a:r>
              <a:rPr b="1" lang="en-US" sz="4800" spc="-1" strike="noStrike" u="sng">
                <a:solidFill>
                  <a:srgbClr val="4e5b6f"/>
                </a:solidFill>
                <a:uFillTx/>
                <a:latin typeface="Century Schoolbook"/>
              </a:rPr>
              <a:t>ENCYCLOPEDIAS</a:t>
            </a:r>
            <a:endParaRPr b="0" lang="en-US" sz="4800" spc="-1" strike="noStrike">
              <a:solidFill>
                <a:srgbClr val="4e5b6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RINT VS. ELECTRONIC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aldwick School Librar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Print – World Book (2012)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Electronic – </a:t>
            </a:r>
            <a:r>
              <a:rPr b="0" lang="en-US" sz="2500" spc="-1" strike="noStrike" u="sng">
                <a:solidFill>
                  <a:srgbClr val="eb8803"/>
                </a:solidFill>
                <a:uFillTx/>
                <a:latin typeface="Century Schoolbook"/>
                <a:hlinkClick r:id="rId1"/>
              </a:rPr>
              <a:t>World Book Onlin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aldwick Public Librar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Print – World Book (2008)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Print – World Book Student Discovery 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Science Encyclopedia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Print - Variety of Subject-Specific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Encyclopedia Sets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1</a:t>
            </a:r>
            <a:r>
              <a:rPr b="0" lang="en-US" sz="3000" spc="-1" strike="noStrike" baseline="30000">
                <a:solidFill>
                  <a:srgbClr val="4e5b6f"/>
                </a:solidFill>
                <a:latin typeface="Century Schoolbook"/>
              </a:rPr>
              <a:t>ST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 - LOCATE AN ENCYCLOPEDIA  </a:t>
            </a:r>
            <a:br>
              <a:rPr sz="3000"/>
            </a:b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           ARTICL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ormation is organized in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RTICL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ticles are written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UBJECT EXPERT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check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EDITOR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int editions are organized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LPHABETICAL ORD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f the artic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lectronic editions suppor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KEYWORD SEARCH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2</a:t>
            </a:r>
            <a:r>
              <a:rPr b="0" lang="en-US" sz="3000" spc="-1" strike="noStrike" baseline="30000">
                <a:solidFill>
                  <a:srgbClr val="4e5b6f"/>
                </a:solidFill>
                <a:latin typeface="Century Schoolbook"/>
              </a:rPr>
              <a:t>ND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 - FILL-IN CITATION INFORMATION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rticle contributor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itle of the artic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ame of online encycloped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ame of publisher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Year of publica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ate of acces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3</a:t>
            </a:r>
            <a:r>
              <a:rPr b="0" lang="en-US" sz="3000" spc="-1" strike="noStrike" baseline="30000">
                <a:solidFill>
                  <a:srgbClr val="4e5b6f"/>
                </a:solidFill>
                <a:latin typeface="Century Schoolbook"/>
              </a:rPr>
              <a:t>RD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 – CREATE CITATION IN MLA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LA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st Name, First Name. “Title of Article.”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Name of Encyclopedi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Name of Publisher, Year of Publication. Medium of Publication. Date of Acces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Yelle, Roger V. "Jupiter."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World Book Student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World Book, 2012. Web. 2 Feb. 2012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4</a:t>
            </a:r>
            <a:r>
              <a:rPr b="0" lang="en-US" sz="3000" spc="-1" strike="noStrike" baseline="30000">
                <a:solidFill>
                  <a:srgbClr val="4e5b6f"/>
                </a:solidFill>
                <a:latin typeface="Century Schoolbook"/>
              </a:rPr>
              <a:t>TH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– TAKE NOTE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otes are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ull sentences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otes are fact fragments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Paraphrase your fact fragments during the final writing proces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6:22:29Z</dcterms:created>
  <dc:creator>Paul Hummel</dc:creator>
  <dc:description/>
  <dc:language>en-US</dc:language>
  <cp:lastModifiedBy>Paul Hummel</cp:lastModifiedBy>
  <dcterms:modified xsi:type="dcterms:W3CDTF">2012-02-02T22:48:20Z</dcterms:modified>
  <cp:revision>6</cp:revision>
  <dc:subject/>
  <dc:title>6TH Grade  Science Fair:  Researching with  Encyclopedias</dc:title>
</cp:coreProperties>
</file>